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9B3-45F1-442D-928B-0A2A336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441-85A4-4CF0-8970-D56C9592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7A8-D3CF-45C7-9B78-AB9FD082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6F4-2B79-441E-A74D-926FF36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804-D2B0-4D7D-B344-9D326B3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47E-90BD-4C1F-862D-A8C4C94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14B-B7C3-46FC-806B-06C002DA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0D9-023B-4C3E-AF72-403F600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FED-D29C-4640-837B-D8944B77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3EF-8F1F-42EE-B21A-0E9E43E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E1E-E278-4981-B1A9-B2253FD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4F9-97FD-44E8-B303-EE20761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80A-5881-4B9D-9F92-EB8779E3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 Chcem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ť chv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mojej vie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é vyzn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tebe jedi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ť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ďačným srdcom priniesť na oltá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láske svojej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sprevád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pat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a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tvojou mocnou ru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m s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oň v milosti sa ku mne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vďaky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oslavu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ne stvor srdce no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v ňom dozr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a ovoc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mne si zbud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j lásky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ti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ej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prosby moje, Spasite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Záchran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ý Obhaj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ukou svo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a k cie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domov chyst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3:57Z</dcterms:modified>
  <cp:revision>13</cp:revision>
  <dc:subject/>
  <dc:title>Je veľký náš Pán, on slávy je Kráľ Nech do všetkých strán  spev vrúcnych znie chvál.</dc:title>
</cp:coreProperties>
</file>